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arrow.wav" ContentType="audio/x-wav"/>
  <Override PartName="/ppt/media/image13.jpeg" ContentType="image/jpeg"/>
  <Override PartName="/ppt/media/coin.wav" ContentType="audio/x-wav"/>
  <Override PartName="/ppt/media/applause.wav" ContentType="audio/x-wav"/>
  <Override PartName="/ppt/media/bomb.wav" ContentType="audio/x-wav"/>
  <Override PartName="/ppt/media/image1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wind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click.wav" ContentType="audio/x-wav"/>
  <Override PartName="/ppt/media/image1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D12-799E-4C6B-AAAB-50700F38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589-187B-4D29-AD69-0C6DD62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DA461-7AB5-4431-9852-D67FB64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C5CAE-7778-453F-AD8F-88C78BB6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196A6-4458-4E42-8569-D58A11E0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E2490-B447-4C46-9C37-7258516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0B0EC-CB06-413E-B0A6-A6ED0EB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E829-087C-4D4A-AB9E-EBF2879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6C3FB-5D69-4874-8CD2-E4A9A88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9E129-312E-45A2-ABBA-081833E4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7032D-57D1-4CFA-B4F7-22C0036F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A12FA-A60B-4369-825A-B381E882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21A-42FA-48D9-ADB1-6C7A3FF4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8996-A86A-4030-807D-AA3FD7F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9CA46-0BA8-483C-A353-3924F87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6B824-DD51-4393-9B23-CE24B76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14B9-835C-4514-82D1-334C87B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D0A0F-5E45-45EA-956F-7A8384DB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A5534-EDB2-4AE8-97B9-EAD6327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A057F-8707-4030-9E03-000C99C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37558-91D2-49BE-8C98-CFF6C79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E80F1-9D9B-46C1-8650-45058C2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C4FF0-F80B-4A1F-BDF5-8D9EA3C4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DD0-A8F2-4ECE-8005-42A5063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2C5AE-2E01-4921-85F7-4D89A980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77293-2ABE-4F55-B742-A7323120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1466-E149-4EB5-8A96-7765AC7B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82B0-47FE-4DB1-BEDE-69C78534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EB337-193E-470A-B7E9-85595FB3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81619-CD5D-45FA-8827-EC8BF6D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F57BC-A209-4447-82CA-DC3CB1B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CD46C-ECA4-488E-AE08-F152D09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10CF4-C8C1-4CC4-BCE9-843ADDA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2501A-F842-4B48-B94F-6683DCC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F13B-43F8-40FE-A984-95336A3D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BBAD5-5301-4FA4-BEAB-98A0578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5D4F-5282-48DA-B015-6BC589D2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9BBC2-5B08-4C84-B918-6ED09F6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481D6-329B-4C1A-904F-AAB402D1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9DCAE-1646-409C-8AEF-3AC1DB9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76DE1-B5E2-4A73-B933-070B9C0C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D7DB6-DE24-4BAC-A512-166A04AD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8A30-7934-4849-9639-DD047687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18D9D-D169-4832-9DF2-114C7BD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E473A-2084-427D-9A44-EAD1BDD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1AF-E84E-4F43-82C0-50AADF85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BEDC0-5919-42E8-AFEA-259547D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3E165-A40F-4B72-B9FE-D3C395B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C9469-3897-43E6-BEA9-65F471ED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093F8-D43E-4253-BE0D-CE6CD14B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F95CB-F3DD-46C4-A7C1-191E9BE8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4BA1E-FB06-49DC-BC7B-137EF9D8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B8C9C-5300-47D7-94CE-967869A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77D194-2EBA-46F4-9B5B-5FEC44C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864E5-7E6C-49CC-8225-3DCB57B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E4D9F3-6BEB-4749-9184-C7BB67A2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7A4-1ECD-4BA3-A4C0-004149F7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EA973B-4208-43D0-853F-462EAAB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2A2645-F689-4A93-9F37-C4628CC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077EA-8C45-40A2-8A25-BB16BDE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5F6005-8CBC-489F-A3FE-3D605B3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79F9E-9890-456B-97AF-A6AAC27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8E9DF-F20C-4587-9F35-22F10C7B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2411C6-AC19-4CAB-A101-30811DB1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451C3-BBF3-49E2-B0B0-998F7C13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921E3-D316-4E10-9B9F-4A5C8CF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1B973-55B4-4EC3-85C3-528A5312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7FE-5995-4E5D-A5F3-BEC42EB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1852C-26C7-4DBA-B13F-0C30E7E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D93E7-678D-4806-9087-5970264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00BBB-AEA6-4402-8429-2DC83CA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58645-57CD-4E99-AE2A-28759A44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39296-D3EA-4165-A5DA-DEF409B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5EF03-4A0D-4880-BD60-12D8663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60357-2649-4DCE-9A16-9236DE3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1B01E-2466-4127-8BB6-29B2A643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F65BA-6143-45CC-A06A-0C5F9E0F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AB19-F769-4541-906C-EA3BE50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97A2-5377-458D-A360-667C7BE1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ACD-2E04-4764-AA6D-2B0C722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1B2-9834-4700-88F0-7068491B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285-72DF-465C-8587-924C2B6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6318-9B4F-4DC7-9683-71ED1AC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4BF3-96FB-4985-AB19-B7A3978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607-B460-439D-876A-EC141138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2BD0-16B3-48C4-AE94-172D7CA1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EAB5-A5EE-4B16-B13F-74FC47CC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5278-A8A4-436A-B994-2519F48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B772-7F98-4370-B4AE-62485FC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A7EC-1CE7-45F5-B2AD-EBDB8C7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9CC4-2709-4400-9C5F-D99C7E4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4A0-BB29-4CB3-AEDB-A4F7B614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4193-C57C-4047-8D99-3DA3DE3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2EC8-56DD-4AEB-804D-D79BCE4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25E5-ADCA-4350-B9AD-D7F27E74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E439-C793-4C43-847F-8376821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CD16-12ED-4AFF-9869-4C19C88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00DB-E696-481F-B0C7-32DAE1E4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6D77-C68B-4334-BEB5-D3887042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B5A3-57BE-4ABA-9DD2-4D9DA868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B817-98B8-45DB-BA74-8CCD5904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F563-1D92-459B-B894-673C6AF6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D88-80D4-4CDF-93B5-06C3F192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0851-3E0C-4FD1-AA7C-5C7E6BA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3B1A-6B7E-4A74-B635-018B49C3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2E4E-7679-4F67-83B7-1B57EB88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785C-B114-4096-B5EE-4EBD5CB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D539-4004-4D79-BA78-9840F6E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FA9D-4348-4680-B0E5-0312E5D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C6F0-1291-4A2C-946F-961C33C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E662-B4FE-4C22-BEED-3A1B1A4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D18E-D2F6-4621-A30A-BEA5EC7F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C51A-1A75-4CDE-BDA8-8C39AE44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4D5-4ED2-4548-AACB-219AD82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F411-7C2A-4383-AD68-7419983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F09C-5FAB-446D-B253-8F90501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41EB-FA49-4DC3-9BCE-9A681EA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6ABB-91AC-4797-84ED-1071B80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D936-B8CA-4B78-83A7-0F5F3F02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EC67-CFC9-434C-A557-249270A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46E25-5AF6-4D95-9667-4638A7D8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4354-10BF-44D1-B188-E7103BE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4BE5-4A4D-42C3-B9D1-C2BFAD18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30E9-28EB-4723-8264-47F9FAF4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8B3-D1EE-4237-AB78-087E645A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69E10-6A2A-4A9B-81E1-02134417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F6529-0342-4BD5-963E-235C3D39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001E-D8C7-459E-AFBA-32A0AB6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5335-FB65-4F32-A086-0A8275BE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17EE8-125F-4656-A1FF-92BBF4F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EBE58-B3C9-47F3-BF31-32C32BC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E1025-3EB3-41D1-A9CE-627C2D3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4CCA0-0BAC-4811-A6F3-06E56C4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665D-80BF-494F-9FD5-988C297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4D696-C5CF-4046-8C8D-8CCB2F0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C4D-86E5-49D5-88E0-904FBD6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F0E0-2C4B-4BF2-A8A3-9FAEEBE0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B494-7F69-4AEC-B5F2-5C46DDB9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43AB-F253-41E0-BCD7-B0274DB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F6BE8-220A-4F47-8E97-52FF0A8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7E16-DA73-4676-BE22-F6AFAE5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A2C8-D509-46D5-9E05-8EF019D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A525B-D911-4D7C-BC68-64CC6FD6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CE74-6B7B-4662-BB12-9909835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B239-B731-40A5-A6A9-7958513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1C60-9285-4567-94FD-606B609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8AD-D1C7-4EC9-A8DC-955B5A0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C1EF-0BED-4CB9-B7B4-7DC02421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EC4F7-BE5E-4F6C-B092-30ED156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0CF7-AED9-4F19-B5ED-9046712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9574-2564-43F5-BEC9-975B99F3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FFCB-80C6-4832-8A72-A97DF9B4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7729A-C1C9-45E8-8D9C-00CC601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BFD7F-449F-4F3A-8914-0E8F86F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A3CA1-7B7D-4407-92D8-1023A5E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F8F1B-E18C-4955-9389-48C4730C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A4C24-FE06-49FA-B7DD-6E0BD64D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C93-92EC-4839-8BAE-1191170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DF232-9E9A-45EE-8885-BD4B7F44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4AC9A-C172-4341-B707-31A7F31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556BE-B26A-4A0B-B379-7ACC681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B59C9-65C1-410C-A726-121524B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CBA0C-57EF-4142-AC65-720D68D0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BA8AE-3A3E-47A7-87DB-DDE6EC86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AE7A3-4588-4DDD-9BE4-87317C62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FC1D0-53DE-4769-B637-39AED21F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0634C-9686-46BC-89B9-D389AD34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BD533-7BB6-4409-8EA5-6F6AA99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63B-E2F7-4C09-AB76-D3A68736A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7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C3AA-1FCC-4D76-A14C-C2046D9C36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49EE-4FFA-4ADE-AEEA-84076C202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659-3B65-4D5C-BE27-0C639797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C90C-EAF7-4DB3-8839-8C1C475EB3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26B2-B264-4AB3-9D8C-6E2AE59F7B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6D7-07DF-411B-A88E-E6AC4DBE5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7286-62C6-4B94-A5A3-7730462F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4CA1-3AD6-42AB-ADC7-0965A610A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7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447-D3AA-4C55-A9D6-F46D0156DE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E87-E9EE-42BE-B85A-F7BB651C4C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FFA-9DAB-4614-AE47-DE4FAB3B2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3976-D9D7-4C5C-B875-F48BF61AD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9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0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28F-1EB4-4E66-87B2-09C63BDF40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Tyler Hal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mpir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blinds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pital is Alb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3056040"/>
            <a:ext cx="5257800" cy="3801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bird is blueb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0" y="2065320"/>
            <a:ext cx="5486400" cy="4792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  <p:sndAc>
      <p:stSnd>
        <p:snd r:embed="rId3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flower is the r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334120" y="400536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97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plit dir="in" orient="vert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pulation is 19,011,37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ickname of New York is The Empi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5776920" y="236232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ea is 54,475 square miles (2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zoom dir="out"/>
    <p:sndAc>
      <p:stSnd>
        <p:snd r:embed="rId1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49:08Z</dcterms:created>
  <dc:creator>Student</dc:creator>
  <dc:description/>
  <dc:language>en-US</dc:language>
  <cp:lastModifiedBy>Student</cp:lastModifiedBy>
  <dcterms:modified xsi:type="dcterms:W3CDTF">2012-05-14T14:35:53Z</dcterms:modified>
  <cp:revision>3</cp:revision>
  <dc:subject/>
  <dc:title>Tyler Hall</dc:title>
</cp:coreProperties>
</file>